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11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applause.wav" ContentType="audio/x-wav"/>
  <Override PartName="/ppt/media/image7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7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26T23:21:53.886000000" idx="2">
    <p:pos x="4163" y="105"/>
    <p:text/>
  </p:cm>
</p:cmLst>
</file>

<file path=ppt/comments/comment7.xml><?xml version="1.0" encoding="utf-8"?>
<p:cmLst xmlns:p="http://schemas.openxmlformats.org/presentationml/2006/main">
  <p:cm authorId="0" dt="2016-08-26T23:21:47.367000000" idx="1">
    <p:pos x="3792" y="55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C5F-8854-4D7C-AD2F-FA0C5C5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EB5-203D-41C9-89EA-BD1C9E2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215B6-2594-4D21-A36C-0FA4F5C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B89D-B217-4049-B4D4-6EA8813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8EF83-9E8B-4285-9B90-E8E6269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612D-1258-4CA0-9639-52A38E34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B99C-9275-44A3-B5B0-1687C19B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213DB-6047-4671-83BC-2AE2FF3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C0EC-F1A3-4011-9C84-F33CFC7C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83718-62D6-4F2F-A202-455FA958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9DC7F-9C06-4456-9B92-7E042AA8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571E9-301F-47F0-8B03-84ADC901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B7D-F4D4-423F-8B38-61E60F8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B3E92-AEE6-4F0D-8BDA-763168C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A5B29-5BD4-4B9B-9E92-B659D527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F1B09-D289-48F1-9F2F-93F2D63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44543-D4B9-4366-BEA1-1A4FF9A1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0095C-E669-4D5B-A3F4-65AEC97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05228-F35B-4B4D-9813-68AE201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A226A-56EF-449F-B93D-8744E99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0F39-3637-4582-A710-669B04D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2413-712A-45AF-86F7-9151D06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1EFA-645F-440B-8076-B190C83F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0E7-E784-409F-86C2-BF498B92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DAAE-2921-44C4-9F85-5361FBEB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108DE-ABD2-450B-ADCF-59F01356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8EE78-C5FF-40C3-A3DE-033236B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DD8D-7607-4407-83C2-032F732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618DC-E703-4E21-9651-A21DFC3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276D4-6481-42A7-8E59-F9BC124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0F8C-EE70-4B52-B2BF-6C0BC91D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E842-4F9C-4102-BBED-F67BD49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AA8FB-D6D5-46ED-A540-BC591A93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B8321-69D6-47AF-BE55-08A87C2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AC2C-3F94-4496-868C-05EF5754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7B176-E7B6-4571-9920-95121862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293EE-8B69-44C5-80D9-65975193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72659-DB85-4C7F-B648-21EBC885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DA131-3E4B-4790-A300-74053DC9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EC3E1-5F46-41BC-BDF4-2B74394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1714-8D54-422C-8689-1F004323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34F47-1DC8-469F-B253-1F34630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E6123-4897-45A3-833A-5307789C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F59D9-CC04-4AAA-B177-816D90B5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8B61F-6FFE-415E-BC1F-D12FE18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B11-1494-412B-ADBE-8788B6A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C0248-695E-40D6-A6ED-708E074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83D3-33B9-4903-85BA-DC87FAE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ED23B-0066-44B0-98A1-D892113B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0AE5-3A27-4F85-9A6C-73D62810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B800F-ED09-406B-A374-203A091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7DA-3B74-45B1-AEAD-E874CE6B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9489-DC85-4FA0-B9FD-031EFEC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62F9-8A0C-4ABA-A422-69F7D94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870-41DC-43C4-A1FD-BA7AF3B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E4A-BC2C-447C-B584-AA47A3FA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28A-E65B-4F42-9F37-B663804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3CC-9D84-4E6B-BE75-B9C6DF0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27B3-1634-4301-B35E-E724A731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0950-7466-4420-B7DD-1346657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3215-B7C3-4489-B2D5-79AF8EE7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293D-C49F-4043-BF03-7546FD6A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3488-E32E-4F6F-80C2-F935FEB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459A-9114-4961-823E-6ABBC54F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6A6F-AB5E-44EA-B2E2-8942685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5A50-1FA2-4A91-A03A-8481C86C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CC24-3629-47D5-A27A-FDDD576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82C-6B4C-4A92-B0B8-A67094F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ADAE-6B6B-4B0D-A756-06B2A77D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15A9-574E-451B-AF99-3F6056F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16BD-690A-4C03-9C3B-BBDBACD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BDA6-816A-48C5-9C7E-3E3A4887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D098-9405-491E-BA58-A43DC24A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3F37-CE58-4C0D-A92B-23D5CF22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6B31-94FF-4FAA-B496-35C2723A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7DE1F-42A2-4701-B5A7-411A12CD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3C91-34FC-4898-8F31-6E219EB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DD41-2562-43A8-BB04-BE48B0F2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9B7-131D-4C13-A8EC-FBE5729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17D4-922F-471D-BB6E-E23D14F6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639B-4ABD-468C-ACDB-479FF23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8B5E7-41A2-4FEA-8595-D035C13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241F-AA38-4977-A5E2-8CA1288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4390-7078-4A74-9988-BF588C7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D8CE-6318-490D-981F-B34D130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DF1F-784A-4E1C-BD4B-D6F043E1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DF23-EB29-4735-9D17-9E35BFAC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D866-9831-4F84-B066-43C7DBC6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E6C6-E62C-497E-815C-E14198B8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D81-CBC6-4778-985A-7C38EC3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1611-4ABC-4B9B-B22E-2F32D7D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3895-4D18-49CD-811B-4D8F0CC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5A530-9532-447C-8113-B31BB048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F678-85BB-43A3-8255-2AC7604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7AC1A-FA79-4256-963B-315309E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C5413-036F-4D5D-8FC6-2C066E9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5596-344E-4BBB-A456-89C4DED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68E5-2E7A-4E86-85FA-3D44B15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9C3B-7D09-49D0-B991-304EB2D5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AC76-6601-4E8A-8544-D223ECA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EDE-2C95-490B-85F7-0A3E38DD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508F-5B12-486A-AC48-035FEDB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41D3-02E4-4663-B1F7-951D88D8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53ED4-A112-4CDB-AD97-C78D793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5197-44EF-4B44-A8FF-15A9751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95AEF-1CD9-445A-BBA3-DF230042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D9C2-F535-4215-833F-9FCC200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B0B9-B9BC-4A82-9C6A-C2E99A7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F350-E37B-49D5-B6B0-41CDBFF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F20D8-6470-48F8-8081-AA10DA98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73FAD-AA0D-420E-A589-4685D8F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98F-F7B4-40AC-ABDC-7BD9527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92B9-3059-4F3F-AE79-F084261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B5CD-40FA-4072-AC2D-998ABD5E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52C1-74BC-4927-BDA5-F861DCD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773A-5428-4129-A6BF-5A9EE5A8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5C42-E098-4ED6-B964-3539B3A9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D3FC-8FCC-4B75-B67E-09EA7EB5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0156-7B3F-442E-854D-0C5E80CC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E44F3-E592-4B61-A263-CC43B1B8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BDA4-2187-40FA-AAB8-941ABF3B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E2C4-3E68-40AF-9112-455BBBF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2C4-851D-4A0E-B17E-3D84D93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003D-86FF-47A3-A6B3-173C500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DDC6-1263-4235-8A45-D01FC0C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79D4-F52A-4E75-B822-F4CE92B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A5FD-2631-4D80-AA26-49918BF3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011D-BF7C-4440-BC28-6F23976C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4913-323C-4BE6-84E9-15EFE4C5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2E22-2034-4C72-A20A-F6AD8098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4B2E-A75B-41A5-B5F5-DE16D24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F534-CAEB-437C-A74D-A4C165B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9477F-B698-4E97-A4B2-D57D8C07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C05-BBF5-4E9B-96A7-E570D02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9AFC-6D12-4F24-B96D-6DE5DA8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D988C-56B5-44DB-A549-76473EA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3D9D-B664-458D-8348-EA40F89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DBB08-29DE-418A-81F0-B8AAD3E2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364CD-4924-42C1-B7C9-50B071F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21905-190B-420B-870A-01147976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33D9-EF41-4C2C-84CF-2594E059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CEB2-3976-4DE9-959A-76C60772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D80B-4B75-4453-A7B5-4B78207A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8CFA-5818-4630-BBB7-1BE151F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FCF9-FD83-4E3E-8341-2532DC93CE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069-099E-4874-A003-CBB6F13DAC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6461-D747-489B-A12E-22B6CFECCA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61B-47D2-4692-8F96-CE9DF5DEE9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图片 34831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C70-5EA6-4665-A31E-5B661594E1C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515-38C9-4646-923F-E4FDC38790F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818-C7B9-431B-944E-60393C4167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921-0477-45AD-B926-B21E729ED9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AFD5-8173-4EF3-85A2-1B97BE976A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286C-5976-4ABC-907F-5090286BED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C840-066D-42D2-A6F7-7A5C29EF405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F00-5A46-4477-8904-A2F4F1B7B7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2472480" y="638280"/>
            <a:ext cx="55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zh  ch  sh r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79280" y="2697120"/>
            <a:ext cx="86742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               </a:t>
            </a: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zh   ch   sh  r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zhi   chi  shi  ri 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396720" y="981000"/>
            <a:ext cx="82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比  一  比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743040" y="285444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声母 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25440" y="4726080"/>
            <a:ext cx="22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整体认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   </a:t>
            </a: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读音节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939960" y="817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整 体 认 读 音 节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878040" y="1700280"/>
            <a:ext cx="7488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z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zhī  zhí  zhǐ  zh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chī  chí  chǐ  chì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shī  shí  shǐ  sh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rī      rí     rǐ     rì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4068720" y="1125360"/>
            <a:ext cx="266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幼圆"/>
              </a:rPr>
              <a:t>比一比</a:t>
            </a:r>
            <a:endParaRPr b="0" i="1" lang="en-US" sz="2400" spc="1" strike="noStrike" u="sng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幼圆"/>
              <a:ea typeface="幼圆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469800" y="371808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  c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541440" y="515772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  s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4861080" y="22845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i z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861080" y="37180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i c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861080" y="515772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i s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469800" y="22971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  z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2" name="Picture 9" descr="girl3"/>
          <p:cNvPicPr/>
          <p:nvPr/>
        </p:nvPicPr>
        <p:blipFill>
          <a:blip r:embed="rId1"/>
          <a:stretch/>
        </p:blipFill>
        <p:spPr>
          <a:xfrm>
            <a:off x="7240680" y="4591080"/>
            <a:ext cx="1592280" cy="1871640"/>
          </a:xfrm>
          <a:prstGeom prst="rect">
            <a:avLst/>
          </a:prstGeom>
          <a:ln w="0">
            <a:noFill/>
          </a:ln>
        </p:spPr>
      </p:pic>
      <p:sp>
        <p:nvSpPr>
          <p:cNvPr id="6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1" descr=""/>
          <p:cNvPicPr/>
          <p:nvPr/>
        </p:nvPicPr>
        <p:blipFill>
          <a:blip r:embed="rId1"/>
          <a:stretch/>
        </p:blipFill>
        <p:spPr>
          <a:xfrm>
            <a:off x="685800" y="851040"/>
            <a:ext cx="7723080" cy="53290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2057400" y="1295280"/>
            <a:ext cx="115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绕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口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令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780000" y="139392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 shì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 是  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  shì   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 是  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ì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四  是    十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 shì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十   是   四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  bù  dú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四  不  读  四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bù  dú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十   不  读  十 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同侧圆角矩形 5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105"/>
          <p:cNvPicPr/>
          <p:nvPr/>
        </p:nvPicPr>
        <p:blipFill>
          <a:blip r:embed="rId1"/>
          <a:stretch/>
        </p:blipFill>
        <p:spPr>
          <a:xfrm>
            <a:off x="108000" y="1054080"/>
            <a:ext cx="8966160" cy="5334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914400" y="4267080"/>
            <a:ext cx="731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u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－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lu    re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－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le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WordArt 4"/>
          <p:cNvSpPr txBox="1"/>
          <p:nvPr/>
        </p:nvSpPr>
        <p:spPr>
          <a:xfrm>
            <a:off x="900000" y="2709720"/>
            <a:ext cx="6353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uFillTx/>
                <a:latin typeface="Arial"/>
              </a:rPr>
              <a:t>看谁读得最准</a:t>
            </a:r>
            <a:endParaRPr b="1" i="1" lang="en-US" sz="6000" spc="-1" strike="noStrike" u="sng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日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755640" y="50720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吃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708360" y="50007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十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书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7380360" y="3573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入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住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出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7675200" y="1773360"/>
            <a:ext cx="11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ch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22920" y="1844640"/>
            <a:ext cx="5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rì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2825640" y="1773360"/>
            <a:ext cx="11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zh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5508720" y="1773360"/>
            <a:ext cx="95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sh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4299480" y="1790640"/>
            <a:ext cx="9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ch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336320" y="1787400"/>
            <a:ext cx="11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sh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6640560" y="177336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r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9933ff"/>
                </a:solidFill>
                <a:uFillTx/>
                <a:latin typeface="Comic Sans MS"/>
                <a:ea typeface="楷体_GB2312"/>
              </a:rPr>
              <a:t>戴帽子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225" dur="1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229" dur="1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233" dur="1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237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241" dur="1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245" dur="1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249" dur="1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165320" y="1052640"/>
            <a:ext cx="6933960" cy="527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欢迎台湾小朋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一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只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船，扬白帆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飘呀飘呀到台湾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接来台湾小朋友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到我学校玩一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伸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出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双手紧紧握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情的话儿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说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不完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3060720" y="162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zh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2987640" y="45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ch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629080" y="52293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rè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429080" y="5302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shu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468360" y="981000"/>
            <a:ext cx="4075200" cy="2608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981000"/>
            <a:ext cx="30956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2484360" y="3789360"/>
            <a:ext cx="5832720" cy="1440"/>
            <a:chOff x="2484360" y="3789360"/>
            <a:chExt cx="5832720" cy="1440"/>
          </a:xfrm>
        </p:grpSpPr>
        <p:sp>
          <p:nvSpPr>
            <p:cNvPr id="517" name="Line 4"/>
            <p:cNvSpPr/>
            <p:nvPr/>
          </p:nvSpPr>
          <p:spPr>
            <a:xfrm>
              <a:off x="2484360" y="378936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484360" y="378936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484360" y="6381720"/>
            <a:ext cx="5832720" cy="1440"/>
            <a:chOff x="2484360" y="6381720"/>
            <a:chExt cx="5832720" cy="1440"/>
          </a:xfrm>
        </p:grpSpPr>
        <p:sp>
          <p:nvSpPr>
            <p:cNvPr id="520" name="Line 5"/>
            <p:cNvSpPr/>
            <p:nvPr/>
          </p:nvSpPr>
          <p:spPr>
            <a:xfrm>
              <a:off x="2484360" y="638172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484360" y="638172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484360" y="5516640"/>
            <a:ext cx="5832720" cy="1440"/>
            <a:chOff x="2484360" y="5516640"/>
            <a:chExt cx="5832720" cy="1440"/>
          </a:xfrm>
        </p:grpSpPr>
        <p:sp>
          <p:nvSpPr>
            <p:cNvPr id="523" name="Line 6"/>
            <p:cNvSpPr/>
            <p:nvPr/>
          </p:nvSpPr>
          <p:spPr>
            <a:xfrm>
              <a:off x="2484360" y="551664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2484360" y="551664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484360" y="4581360"/>
            <a:ext cx="5832720" cy="1800"/>
            <a:chOff x="2484360" y="4581360"/>
            <a:chExt cx="5832720" cy="1800"/>
          </a:xfrm>
        </p:grpSpPr>
        <p:sp>
          <p:nvSpPr>
            <p:cNvPr id="526" name="Line 7"/>
            <p:cNvSpPr/>
            <p:nvPr/>
          </p:nvSpPr>
          <p:spPr>
            <a:xfrm>
              <a:off x="2484360" y="4581360"/>
              <a:ext cx="583272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484360" y="4581360"/>
              <a:ext cx="5832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Text Box 8"/>
          <p:cNvSpPr/>
          <p:nvPr/>
        </p:nvSpPr>
        <p:spPr>
          <a:xfrm>
            <a:off x="4275360" y="3716280"/>
            <a:ext cx="181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zh</a:t>
            </a:r>
            <a:endParaRPr b="0" i="1" lang="en-US" sz="1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455400" y="40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翘舌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415280" cy="4159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 flipH="1">
            <a:off x="3492360" y="69228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z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140360" y="2781360"/>
            <a:ext cx="4248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--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zh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e--zhe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u--zhu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u—o--zhu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108000" y="98100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64000" y="981000"/>
            <a:ext cx="25146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1535040" y="3114720"/>
            <a:ext cx="5832720" cy="360"/>
            <a:chOff x="1535040" y="3114720"/>
            <a:chExt cx="5832720" cy="360"/>
          </a:xfrm>
        </p:grpSpPr>
        <p:sp>
          <p:nvSpPr>
            <p:cNvPr id="542" name="Line 4"/>
            <p:cNvSpPr/>
            <p:nvPr/>
          </p:nvSpPr>
          <p:spPr>
            <a:xfrm>
              <a:off x="153504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153504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535040" y="6283440"/>
            <a:ext cx="5832720" cy="360"/>
            <a:chOff x="1535040" y="6283440"/>
            <a:chExt cx="5832720" cy="360"/>
          </a:xfrm>
        </p:grpSpPr>
        <p:sp>
          <p:nvSpPr>
            <p:cNvPr id="545" name="Line 5"/>
            <p:cNvSpPr/>
            <p:nvPr/>
          </p:nvSpPr>
          <p:spPr>
            <a:xfrm>
              <a:off x="153504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153504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35040" y="5273640"/>
            <a:ext cx="5832720" cy="3240"/>
            <a:chOff x="1535040" y="5273640"/>
            <a:chExt cx="5832720" cy="3240"/>
          </a:xfrm>
        </p:grpSpPr>
        <p:sp>
          <p:nvSpPr>
            <p:cNvPr id="548" name="Line 6"/>
            <p:cNvSpPr/>
            <p:nvPr/>
          </p:nvSpPr>
          <p:spPr>
            <a:xfrm>
              <a:off x="153504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153504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535040" y="4121280"/>
            <a:ext cx="5832720" cy="2880"/>
            <a:chOff x="1535040" y="4121280"/>
            <a:chExt cx="5832720" cy="2880"/>
          </a:xfrm>
        </p:grpSpPr>
        <p:sp>
          <p:nvSpPr>
            <p:cNvPr id="551" name="Line 7"/>
            <p:cNvSpPr/>
            <p:nvPr/>
          </p:nvSpPr>
          <p:spPr>
            <a:xfrm>
              <a:off x="153504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153504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3" name="Text Box 8"/>
          <p:cNvSpPr/>
          <p:nvPr/>
        </p:nvSpPr>
        <p:spPr>
          <a:xfrm>
            <a:off x="3330000" y="3114720"/>
            <a:ext cx="2212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ch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6984000" y="882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翘舌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 flipH="1">
            <a:off x="3784680" y="8110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211640" y="2827440"/>
            <a:ext cx="38908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c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e—che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u—ch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u—o--chu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1044720" y="981000"/>
            <a:ext cx="3733560" cy="2087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4861080" y="1054080"/>
            <a:ext cx="2709720" cy="20876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39"/>
          <p:cNvPicPr/>
          <p:nvPr/>
        </p:nvPicPr>
        <p:blipFill>
          <a:blip r:embed="rId3"/>
          <a:stretch/>
        </p:blipFill>
        <p:spPr>
          <a:xfrm>
            <a:off x="7589880" y="3041640"/>
            <a:ext cx="16002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593720" y="3114720"/>
            <a:ext cx="5832720" cy="360"/>
            <a:chOff x="1593720" y="3114720"/>
            <a:chExt cx="5832720" cy="360"/>
          </a:xfrm>
        </p:grpSpPr>
        <p:sp>
          <p:nvSpPr>
            <p:cNvPr id="566" name="Line 5"/>
            <p:cNvSpPr/>
            <p:nvPr/>
          </p:nvSpPr>
          <p:spPr>
            <a:xfrm>
              <a:off x="159372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159372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593720" y="4121280"/>
            <a:ext cx="5832720" cy="2880"/>
            <a:chOff x="1593720" y="4121280"/>
            <a:chExt cx="5832720" cy="2880"/>
          </a:xfrm>
        </p:grpSpPr>
        <p:sp>
          <p:nvSpPr>
            <p:cNvPr id="569" name="Line 6"/>
            <p:cNvSpPr/>
            <p:nvPr/>
          </p:nvSpPr>
          <p:spPr>
            <a:xfrm>
              <a:off x="159372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159372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93720" y="5273640"/>
            <a:ext cx="5832720" cy="3240"/>
            <a:chOff x="1593720" y="5273640"/>
            <a:chExt cx="5832720" cy="3240"/>
          </a:xfrm>
        </p:grpSpPr>
        <p:sp>
          <p:nvSpPr>
            <p:cNvPr id="572" name="Line 7"/>
            <p:cNvSpPr/>
            <p:nvPr/>
          </p:nvSpPr>
          <p:spPr>
            <a:xfrm>
              <a:off x="159372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159372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593720" y="6283440"/>
            <a:ext cx="5832720" cy="360"/>
            <a:chOff x="1593720" y="6283440"/>
            <a:chExt cx="5832720" cy="360"/>
          </a:xfrm>
        </p:grpSpPr>
        <p:sp>
          <p:nvSpPr>
            <p:cNvPr id="575" name="Line 8"/>
            <p:cNvSpPr/>
            <p:nvPr/>
          </p:nvSpPr>
          <p:spPr>
            <a:xfrm>
              <a:off x="159372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159372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7" name="Text Box 9"/>
          <p:cNvSpPr/>
          <p:nvPr/>
        </p:nvSpPr>
        <p:spPr>
          <a:xfrm>
            <a:off x="3346200" y="3114720"/>
            <a:ext cx="2154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sh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" descr=""/>
          <p:cNvPicPr/>
          <p:nvPr/>
        </p:nvPicPr>
        <p:blipFill>
          <a:blip r:embed="rId1"/>
          <a:stretch/>
        </p:blipFill>
        <p:spPr>
          <a:xfrm>
            <a:off x="541440" y="1982880"/>
            <a:ext cx="7829280" cy="42591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3924360" y="836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788000" y="2708280"/>
            <a:ext cx="3816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s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e—she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u—sh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u—o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u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5689440" y="1125360"/>
            <a:ext cx="199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 </a:t>
            </a:r>
            <a:endParaRPr b="0" i="1" lang="en-US" sz="1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702320" y="4608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e       ru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Picture 4" descr="h08-011"/>
          <p:cNvPicPr/>
          <p:nvPr/>
        </p:nvPicPr>
        <p:blipFill>
          <a:blip r:embed="rId1"/>
          <a:stretch/>
        </p:blipFill>
        <p:spPr>
          <a:xfrm>
            <a:off x="76320" y="1347840"/>
            <a:ext cx="4419360" cy="45244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12600" y="3556080"/>
            <a:ext cx="9296640" cy="360"/>
            <a:chOff x="12600" y="3556080"/>
            <a:chExt cx="9296640" cy="360"/>
          </a:xfrm>
        </p:grpSpPr>
        <p:sp>
          <p:nvSpPr>
            <p:cNvPr id="594" name="Line 2"/>
            <p:cNvSpPr/>
            <p:nvPr/>
          </p:nvSpPr>
          <p:spPr>
            <a:xfrm>
              <a:off x="12600" y="35560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12600" y="35560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2600" y="4241880"/>
            <a:ext cx="9296640" cy="360"/>
            <a:chOff x="12600" y="4241880"/>
            <a:chExt cx="9296640" cy="360"/>
          </a:xfrm>
        </p:grpSpPr>
        <p:sp>
          <p:nvSpPr>
            <p:cNvPr id="597" name="Line 3"/>
            <p:cNvSpPr/>
            <p:nvPr/>
          </p:nvSpPr>
          <p:spPr>
            <a:xfrm>
              <a:off x="12600" y="42418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12600" y="42418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12600" y="4927680"/>
            <a:ext cx="9296640" cy="360"/>
            <a:chOff x="12600" y="4927680"/>
            <a:chExt cx="9296640" cy="360"/>
          </a:xfrm>
        </p:grpSpPr>
        <p:sp>
          <p:nvSpPr>
            <p:cNvPr id="600" name="Line 4"/>
            <p:cNvSpPr/>
            <p:nvPr/>
          </p:nvSpPr>
          <p:spPr>
            <a:xfrm>
              <a:off x="12600" y="49276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12600" y="49276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4920" y="5661000"/>
            <a:ext cx="9296280" cy="360"/>
            <a:chOff x="34920" y="5661000"/>
            <a:chExt cx="9296280" cy="360"/>
          </a:xfrm>
        </p:grpSpPr>
        <p:sp>
          <p:nvSpPr>
            <p:cNvPr id="603" name="Line 5"/>
            <p:cNvSpPr/>
            <p:nvPr/>
          </p:nvSpPr>
          <p:spPr>
            <a:xfrm>
              <a:off x="34920" y="5661000"/>
              <a:ext cx="9296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34920" y="5661000"/>
              <a:ext cx="929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5" name="Text Box 6"/>
          <p:cNvSpPr/>
          <p:nvPr/>
        </p:nvSpPr>
        <p:spPr>
          <a:xfrm>
            <a:off x="7342920" y="3387600"/>
            <a:ext cx="139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-6840" y="3448080"/>
            <a:ext cx="225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z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2306160" y="3403440"/>
            <a:ext cx="228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-520560" y="1265400"/>
            <a:ext cx="1005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楷体_GB2312"/>
              </a:rPr>
              <a:t>zh  ch  sh  r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4790520" y="3403440"/>
            <a:ext cx="224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32:00Z</dcterms:created>
  <dc:creator>www.xkb1.com</dc:creator>
  <dc:description>www.xkb1.com</dc:description>
  <cp:keywords>www.xkb1.com</cp:keywords>
  <dc:language>en-US</dc:language>
  <cp:lastModifiedBy>万润仪器贸易公司</cp:lastModifiedBy>
  <dcterms:modified xsi:type="dcterms:W3CDTF">2020-08-24T01:41:58Z</dcterms:modified>
  <cp:revision>620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